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D088B-5A8D-495D-981D-1492D942B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6D883-DED4-43D4-B4CB-9CB591F66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1A195-B4FC-4672-AF3D-4652E662A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FC28A-903D-40C4-A3E7-85CF4EA73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D58A8-4DF3-40DA-B908-75451E56E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60C6C-766C-4CD0-A8FA-8FB226FDE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6F59B-D1F5-4CDE-A056-7FC859D61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388E8-BC30-4E01-A1E5-EA2DA3565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4CEF4-F811-4507-909A-A64E39245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AEABF-0DD6-4413-A2B2-A3ED1A0E5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7CE1C-D132-4D8D-847D-5858E4F2D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4857B-C916-477E-B6CC-D517BDBE4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2987B-E604-4506-95F6-5BBF15B75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F68C5-34CD-4E5D-BBDB-515B0E0F3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D0AFF-F1AA-4299-B98A-E88AFDC4E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8BD4C-A957-4025-95E2-3A8A531C3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3F9A5-0739-401D-9D62-E0C5882EE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235E8-C6F4-4003-BF03-DD6DA1A36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FCC6E-DEED-40DD-AD53-0C7B43526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9808A-7591-4F9B-A143-EE22ABFDA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F6BA7-4493-47E4-8E8C-8CA56C40C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30220-DC31-4DEB-8C3E-441509578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F8FCF-5F82-4589-B544-A817046DE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A036D-22E9-4B31-8770-8C647E5CB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90600"/>
            <a:chOff x="0" y="0"/>
            <a:chExt cx="8686800" cy="48906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21640"/>
              <a:ext cx="8305920" cy="182520"/>
              <a:chOff x="380880" y="142164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2164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796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69040"/>
            <a:ext cx="19810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6544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92C4B-6966-4FD9-ABAA-96D98F635C2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9096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58720"/>
            <a:chOff x="0" y="0"/>
            <a:chExt cx="8763120" cy="595872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14320"/>
              <a:ext cx="8763120" cy="2444400"/>
              <a:chOff x="0" y="3514320"/>
              <a:chExt cx="8763120" cy="244440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14320"/>
                <a:ext cx="77724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43280"/>
                <a:ext cx="764856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895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4600"/>
              <a:ext cx="8077320" cy="304920"/>
              <a:chOff x="635040" y="534600"/>
              <a:chExt cx="8077320" cy="30492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4600"/>
                <a:ext cx="2438640" cy="3049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688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6240"/>
            <a:ext cx="6629400" cy="221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69040"/>
            <a:ext cx="190476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65440"/>
            <a:ext cx="289548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3171E-5932-4CDF-9671-4BBD7C7A128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6" name=""/>
          <p:cNvGraphicFramePr/>
          <p:nvPr/>
        </p:nvGraphicFramePr>
        <p:xfrm>
          <a:off x="825480" y="1577880"/>
          <a:ext cx="5118120" cy="495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5480" y="1577880"/>
                    <a:ext cx="5118120" cy="495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86920" y="343080"/>
            <a:ext cx="7417080" cy="10080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en-US" sz="1400" spc="-1" strike="noStrike">
                <a:solidFill>
                  <a:srgbClr val="330033"/>
                </a:solidFill>
                <a:latin typeface="Times New Roman"/>
              </a:rPr>
              <a:t>ПРОЕКТ «СТРУКТУРА МУНИЦИПАЛЬНОГО ВНУТРЕННЕГО ДОЛГА НА 2018 ГОД И ПЛАНОВЫЙ ПЕРИОД 2019-2020 ГГ. (млн.руб.)»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6156360" y="1638360"/>
          <a:ext cx="2232000" cy="3379680"/>
        </p:xfrm>
        <a:graphic>
          <a:graphicData uri="http://schemas.openxmlformats.org/drawingml/2006/table">
            <a:tbl>
              <a:tblPr/>
              <a:tblGrid>
                <a:gridCol w="22320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ы заимствований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едиты кредитных организаций в валюте Российской Федераци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юджетные кредиты от других бюджетов бюджетной системы Российской Федерации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00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униципальные гарантии Дальнереченского городского округ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user31</cp:lastModifiedBy>
  <dcterms:modified xsi:type="dcterms:W3CDTF">2017-11-03T01:47:56Z</dcterms:modified>
  <cp:revision>39</cp:revision>
  <dc:subject/>
  <dc:title>Структура собственных доходов на 2016 год бюджета Дальнереченского городского округа</dc:title>
</cp:coreProperties>
</file>